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5C5-C4A4-458A-8941-ACB23C64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C7A-A166-49CD-804C-D580AA6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6F4-E591-47E5-8960-25D053A0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788-1F3C-40A0-98A4-9B6CFBD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580-4EF4-4DE2-BED2-EACC273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371-46F4-4129-B3AE-ED1EB182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CF-C61A-4FDE-BBB6-2B0826C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95E-D2B4-4744-B681-A4874005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E05-BCB3-4D5D-9003-B3980577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7DE-7787-4D70-B55B-2FA1D8C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6A7-A19E-4174-B846-781D767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D59-5276-4D19-94F5-6FC0C81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7C59-3E55-44A3-B0DB-DF953CA66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143000"/>
            <a:ext cx="5778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SLAMIC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IVILISATION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0"/>
            <a:ext cx="4800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ere is the Middle East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920" y="228600"/>
            <a:ext cx="41274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Holy City of Mec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695760"/>
            <a:ext cx="3352680" cy="252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676520"/>
            <a:ext cx="4419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cca is the most important city in Isl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where Islam was born and where Muhammad ru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Kaa’ba is there, a large black box which contains the most important artefact of Islam, a piece of rock from Heaven found by Abraham. Millions visit each year, and only Muslims are allowed to enter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174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1295280"/>
            <a:ext cx="6477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is the fastest growing religion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is the main religion in the Middl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founded by Muhammad in 610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believes “There is one God, Allah, and the prophet Muhammad was his messeng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means “submission to G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8600" y="22860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Five Pilla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6094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has five main duties and beliefs which all Muslims should carry out. These are called the Five Pillars and they support the entire fa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657600"/>
            <a:ext cx="1904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ak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iving to Ch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581280"/>
            <a:ext cx="198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lgrimmage to Me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486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hadah - declaration of fa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2004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76212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MUSLIM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e their faith - There is one God, Allah and Muhammad is his me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during the holy month of Rama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y five times a day, facing the direction of Me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 10 % of what they earn to ch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 the holy city of Mecca at least once in their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990720"/>
            <a:ext cx="7239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aw and label the five pillars of Islam in your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aw a timeline of the development of Islam, here are some key events you will need to incl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10AD Muhammad begins pr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22 the Hijrah, the first Muslim community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32 Muhammad 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199 the capture of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215 The Third Cru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2:49:29Z</dcterms:created>
  <dc:creator>Jo Norton</dc:creator>
  <dc:description/>
  <dc:language>en-US</dc:language>
  <cp:lastModifiedBy>Russel Tarr</cp:lastModifiedBy>
  <dcterms:modified xsi:type="dcterms:W3CDTF">2003-03-26T17:13:01Z</dcterms:modified>
  <cp:revision>3</cp:revision>
  <dc:subject/>
  <dc:title>PowerPoint Presentation</dc:title>
</cp:coreProperties>
</file>